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4641-2D43-4FA4-9936-D30726DBD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B7A7-3AA6-4287-B394-B1F9DF13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E9A9-7E79-44AB-A653-B03B0E14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CB6A-469F-4500-8D94-04901221C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86F8-C47C-454E-82D4-21C8AD53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385C-5A7F-464D-801A-51BB7EC9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3296-930F-4E1B-9E2B-68160E22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C529-16A7-471A-BE09-FB43DEA2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9077-B811-4948-92FC-2555CCFE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74A0-FE26-491C-8602-52CD8078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29A5-9EF9-4B34-905F-6C01C87D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7C8B-C062-4C92-AF9F-BD64508E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FE27-9613-4B13-8A31-FFA71BBED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N DE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6294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05920" y="6172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95288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05920" y="6172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5288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294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05920" y="6172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05920" y="6172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05920" y="6172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294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05920" y="6172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61722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05920" y="6172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05920" y="54864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800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6520" y="48006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4800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29400" y="4800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05920" y="48006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114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41148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4114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9400" y="4114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05920" y="41148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4290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34290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52880" y="34290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34290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05920" y="34290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743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27432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2743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743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05920" y="2743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20574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2940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05920" y="20574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85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estinat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e l’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6858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Objectifs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’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685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up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’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29400" y="685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Émet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es inform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05920" y="6858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ates/Mo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lés de dif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371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13716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1371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1371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05920" y="13716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41:27Z</dcterms:modified>
  <cp:revision>71</cp:revision>
  <dc:subject/>
  <dc:title>Contrôle interne des risques</dc:title>
</cp:coreProperties>
</file>